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CHIMES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B695-89CC-4842-91D7-FCBFCEA5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0BCB-6994-4C00-BA52-84FAC46C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35F-BFC6-47D6-9719-96F3205E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B1B-ECC1-4032-9A8D-A9DE4F55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0FE-B0A3-4E1C-94E2-954B2BBE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8D2-76EB-42A9-A4F3-368E6650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F71-E90B-4CE2-84C2-1FC25D3B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D33D-588D-40CB-8AB9-C9F1B4C8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CE6-75F1-43F3-BD1D-084B07AF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324-CAFF-4637-96B1-9EBE4BD2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D66-E4C4-4221-8C7C-9D431247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109E-6324-48CD-9F98-16FF8534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1A80-B769-4ACA-8CA0-BDDDF38A1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. B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the coordin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the midpoint of a seg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ving the given end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(-4,2) and F(5,-2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(0.5,0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this rectangul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id, which plane(s) contai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are parallel to plan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lane DAB (or DAC, CB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greenbox.gif"/>
          <p:cNvPicPr/>
          <p:nvPr/>
        </p:nvPicPr>
        <p:blipFill>
          <a:blip r:embed="rId1"/>
          <a:stretch/>
        </p:blipFill>
        <p:spPr>
          <a:xfrm>
            <a:off x="3733920" y="1295280"/>
            <a:ext cx="30099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 7/16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ruler-in.jpg"/>
          <p:cNvPicPr/>
          <p:nvPr/>
        </p:nvPicPr>
        <p:blipFill>
          <a:blip r:embed="rId1"/>
          <a:stretch/>
        </p:blipFill>
        <p:spPr>
          <a:xfrm>
            <a:off x="2743200" y="2286000"/>
            <a:ext cx="3429000" cy="26240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6"/>
          <p:cNvSpPr/>
          <p:nvPr/>
        </p:nvSpPr>
        <p:spPr>
          <a:xfrm>
            <a:off x="1676520" y="15238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traight Connector 8"/>
          <p:cNvSpPr/>
          <p:nvPr/>
        </p:nvSpPr>
        <p:spPr>
          <a:xfrm>
            <a:off x="304812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5334120" y="2286000"/>
                <a:ext cx="2854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2895480" y="2286000"/>
                <a:ext cx="2858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8" name="TextBox 11"/>
          <p:cNvSpPr/>
          <p:nvPr/>
        </p:nvSpPr>
        <p:spPr>
          <a:xfrm>
            <a:off x="2895480" y="19051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5334120" y="1981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Michael Jack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rcRect l="0" t="0" r="55597" b="0"/>
          <a:stretch/>
        </p:blipFill>
        <p:spPr>
          <a:xfrm>
            <a:off x="2514600" y="1219320"/>
            <a:ext cx="24192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6.3 mi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rcRect l="24263" t="16586" r="26287" b="29352"/>
          <a:stretch/>
        </p:blipFill>
        <p:spPr>
          <a:xfrm>
            <a:off x="2889360" y="2133720"/>
            <a:ext cx="2673360" cy="22860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6"/>
          <p:cNvSpPr/>
          <p:nvPr/>
        </p:nvSpPr>
        <p:spPr>
          <a:xfrm>
            <a:off x="990720" y="10666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cy used a coordinate grid, shown below to sketch the locations of some important buildings in her town. Each block represents 1 square m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914400" y="4419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arcy could travel in a straight line from her house to school, how far would she trav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pla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12835" t="11162" r="12835" b="51364"/>
          <a:stretch/>
        </p:blipFill>
        <p:spPr>
          <a:xfrm>
            <a:off x="3276720" y="1600200"/>
            <a:ext cx="2682720" cy="12952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1676520" y="1143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pe is used to make the shape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1828800" y="289548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ould contain the points A, B, and 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the value 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ariable and YZ i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 is between X and 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Y=5p, YZ=p, and XY=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=5 and YZ=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Reese Witherspo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rcRect l="51401" t="0" r="0" b="0"/>
          <a:stretch/>
        </p:blipFill>
        <p:spPr>
          <a:xfrm>
            <a:off x="3429000" y="1447920"/>
            <a:ext cx="264780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the coordinates of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ssing endpoint given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 is the midpoint of NQ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(3,9) and P(-1,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(-5,1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oose one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  Planes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re parallel plan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 Planes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ntersect in line DE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 Point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in plan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oint P is in pla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7" descr="pracpic3.gif"/>
          <p:cNvPicPr/>
          <p:nvPr/>
        </p:nvPicPr>
        <p:blipFill>
          <a:blip r:embed="rId1"/>
          <a:stretch/>
        </p:blipFill>
        <p:spPr>
          <a:xfrm>
            <a:off x="1066680" y="1143000"/>
            <a:ext cx="20289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5806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s, Lines,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80880"/>
            <a:ext cx="1600200" cy="5806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mous People and their 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752840" cy="7077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anc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d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the value 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ariable and YZ i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 is between X and 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Y=2c+1, YZ=6c, and XZ=8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=10 and YZ=6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former President Bu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3443400" y="2000160"/>
            <a:ext cx="22572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(1,1.5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rcRect l="33022" t="10199" r="7618" b="26220"/>
          <a:stretch/>
        </p:blipFill>
        <p:spPr>
          <a:xfrm>
            <a:off x="2819520" y="1752480"/>
            <a:ext cx="3527280" cy="32943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6"/>
          <p:cNvSpPr/>
          <p:nvPr/>
        </p:nvSpPr>
        <p:spPr>
          <a:xfrm>
            <a:off x="1828800" y="1295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dpoint of AB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number of poi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eeded to determine a l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w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E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3.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Straight Arrow Connector 8"/>
          <p:cNvCxnSpPr/>
          <p:nvPr/>
        </p:nvCxnSpPr>
        <p:spPr>
          <a:xfrm>
            <a:off x="1905120" y="2971800"/>
            <a:ext cx="5410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2209680" y="281952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5257800" y="281952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3200400" y="281952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2" name="TextBox 12"/>
          <p:cNvSpPr/>
          <p:nvPr/>
        </p:nvSpPr>
        <p:spPr>
          <a:xfrm>
            <a:off x="21337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31240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51055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228600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2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3581280" y="2590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9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aris Hilt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2"/>
          <a:srcRect l="0" t="30276" r="55564" b="26486"/>
          <a:stretch/>
        </p:blipFill>
        <p:spPr>
          <a:xfrm>
            <a:off x="2743200" y="1238400"/>
            <a:ext cx="26668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the distance formula to fi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distance between W(-2,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R(5,2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7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ree noncollinear poi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termine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pla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length of 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.3m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6"/>
          <p:cNvSpPr/>
          <p:nvPr/>
        </p:nvSpPr>
        <p:spPr>
          <a:xfrm>
            <a:off x="2209680" y="18288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2057400" y="167652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4800600" y="167652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9"/>
              <p:cNvSpPr txBox="1"/>
              <p:nvPr/>
            </p:nvSpPr>
            <p:spPr>
              <a:xfrm>
                <a:off x="6705720" y="1676520"/>
                <a:ext cx="2854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TextBox 11"/>
          <p:cNvSpPr/>
          <p:nvPr/>
        </p:nvSpPr>
        <p:spPr>
          <a:xfrm>
            <a:off x="1981080" y="1905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48006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662940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2286000" y="1371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7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3657600" y="2438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H=15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Obama’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2"/>
          <a:stretch/>
        </p:blipFill>
        <p:spPr>
          <a:xfrm>
            <a:off x="2971800" y="1219320"/>
            <a:ext cx="2874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beasoa</cp:lastModifiedBy>
  <cp:lastPrinted>2001-01-31T16:21:13Z</cp:lastPrinted>
  <dcterms:modified xsi:type="dcterms:W3CDTF">2011-08-23T13:50:47Z</dcterms:modified>
  <cp:revision>76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